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2053-BFDB-4B33-93CC-B5FBD1B4F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7E62-4608-4203-9C2A-817BA3AB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8903-906A-46D1-9FA3-87A345E35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C6AC-76F4-48FC-95AD-D22A32E24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D8BD-5882-4C9D-92D4-0419B373F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7FEC-2365-4D82-B284-5AB1368E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83B0-8A85-4B05-87BF-948183059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6D5A-BFE6-4153-A539-7DDBEC31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1C30-3BAB-4A61-A3B3-4FE830B2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01F4-6D78-4A8D-98F7-89CC3423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F3C7-58A4-4D7E-829E-8090D493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2512-FA1E-4ECB-BF0F-4DBBCDEB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7E14-F05F-4A19-839E-E2334B48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DD8C-F44C-43F5-A972-0FD223D9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D7A5-1E05-4FB3-9B14-7641F37D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226D-53E5-450B-A7C3-25B279C1D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198E-A6B0-42DF-A69F-76438707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532CC-D3FF-4CED-A9BF-6A671756D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F3DD2-2EDA-4411-A180-615EA287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EB939-BC63-4FA9-B018-C60D81B5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97A0C-DB0E-4DB0-9EB9-4CB014C2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CE13B-FBEC-4DC1-8D93-DA5A7ED7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95F8-9981-4817-86EA-237F1018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A29DD-C774-4FB7-8DED-D8AA079A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87AA8-E674-4F6D-875D-47F52AE4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1910A-403E-4A0B-9C68-0027ABC7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2A1FD-11A1-439A-B5D2-9D1D8781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6767B-379E-4A16-8257-C6A07461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F90A3-B44C-49AB-AA7F-7F7282EF8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FE546-9103-4E3E-A9EA-56810B746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614B0-28CB-4411-B2A8-F6A6CEAFE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7A269-2340-4C56-A95B-B2D7149C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487EE-FC0D-424F-80E8-08955047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BD2F-247E-485C-B2EB-7513EA15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90A02-CBD6-4600-BC90-8FAE2E39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C9695-96C8-4396-A95D-BFD2D5A1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5EE3B-383E-43E0-A2A3-AA51E9E5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0A1AE-03A7-43F7-8427-2CCC2AE0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E7639-070B-4784-B251-9D8A92D8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5D0D8-6267-4874-9BEC-7871DC73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8A23B-AD4F-471E-B38F-73FD1E84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80AFE-6484-4BB3-98D8-4CEDC7B2C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7DB67-F615-4310-BA4B-1D96B2802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33B71-B574-434F-863C-F715A08DA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0467-FBA1-480E-A9A0-33820977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DDFC0-D61F-4465-9CB3-9763B369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6E28A-1117-40BD-8AFB-DF5F8E12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EDC9A-8625-4FF3-AF8D-7EF4616F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B6C4A-8B89-40A3-AA27-27B10740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6CB9D-2987-4173-80C6-4940B6DE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E278E-E293-4F99-9896-976F6682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FF11F-4E70-4DEE-B4EA-3660A0E5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E1484-1568-47B9-B5ED-BA35E57A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A43AA-9016-43C6-B7EF-EF73C62B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D2F7F-4C71-42F3-B385-6CEEF5491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9E3B-67B4-44FC-A81B-31C8C10B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C167C-5BD9-478E-9134-D69564BD5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1981-DFDB-4FBC-B0A4-E0EF1A55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C447-0951-4E26-A8E0-BF30E528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459C-93CC-49BF-ABE3-2CFF47BC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72B9-896E-42AA-93CC-458BFC1E3B4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33A3-B387-43F4-A0CE-A3A4173638E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A6D7-C480-4C8F-BEA6-79FCA3E4A07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4D1F-3D7B-4D29-B3D5-7ACBCC76532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F0C9-60C3-4866-9449-08AD21FD0F0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56800" y="785880"/>
            <a:ext cx="72392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2533c"/>
                </a:solidFill>
                <a:latin typeface="Arial"/>
              </a:rPr>
              <a:t>ОСНОВЫ УПРАВЛЕНИЯ ПРОЕКТАМИ</a:t>
            </a:r>
            <a:endParaRPr b="0" lang="en-US" sz="2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999720" y="514332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576e"/>
                </a:solidFill>
                <a:latin typeface="Arial"/>
              </a:rPr>
              <a:t>ВЫСШАЯ ШКОЛА УПРАВЛЕНИЯ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576e"/>
                </a:solidFill>
                <a:latin typeface="Arial"/>
              </a:rPr>
              <a:t>НИУ «БелГУ»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1" name="TextBox 1"/>
          <p:cNvSpPr/>
          <p:nvPr/>
        </p:nvSpPr>
        <p:spPr>
          <a:xfrm>
            <a:off x="971640" y="2421000"/>
            <a:ext cx="63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34"/>
                </a:solidFill>
                <a:latin typeface="Arial"/>
              </a:rPr>
              <a:t>В помощь участнику 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34"/>
                </a:solidFill>
                <a:latin typeface="Arial"/>
              </a:rPr>
              <a:t>Международной молодёжной школы проектного управления «Пегас 201</a:t>
            </a:r>
            <a:r>
              <a:rPr b="0" lang="en-US" sz="1800" spc="-1" strike="noStrike">
                <a:solidFill>
                  <a:srgbClr val="292934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292934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Определение проекта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10c"/>
                </a:solidFill>
                <a:latin typeface="Arial"/>
              </a:rPr>
              <a:t>«</a:t>
            </a:r>
            <a:r>
              <a:rPr b="0" i="1" lang="ru-RU" sz="2800" spc="-1" strike="noStrike">
                <a:solidFill>
                  <a:srgbClr val="22210c"/>
                </a:solidFill>
                <a:latin typeface="Arial"/>
              </a:rPr>
              <a:t>Проект</a:t>
            </a:r>
            <a:r>
              <a:rPr b="0" lang="ru-RU" sz="2800" spc="-1" strike="noStrike">
                <a:solidFill>
                  <a:srgbClr val="22210c"/>
                </a:solidFill>
                <a:latin typeface="Arial"/>
              </a:rPr>
              <a:t> – это уникальный процесс, состоящий из набора взаимоувязанных и контролируемых работ с датами начала и окончания и предпринятый, чтобы достичь цели соответствия конкретным требованиям, включая ограничения по времени, затратам и ресурсам».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2210c"/>
                </a:solidFill>
                <a:latin typeface="Arial"/>
              </a:rPr>
              <a:t>Процессная модель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2210c"/>
                </a:solidFill>
                <a:latin typeface="Arial"/>
              </a:rPr>
              <a:t>ISO</a:t>
            </a:r>
            <a:r>
              <a:rPr b="0" i="1" lang="ru-RU" sz="2800" spc="-1" strike="noStrike">
                <a:solidFill>
                  <a:srgbClr val="22210c"/>
                </a:solidFill>
                <a:latin typeface="Arial"/>
              </a:rPr>
              <a:t> 9000, 10006</a:t>
            </a:r>
            <a:r>
              <a:rPr b="0" lang="ru-RU" sz="2800" spc="-1" strike="noStrike">
                <a:solidFill>
                  <a:srgbClr val="22210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4" name="Номер слайда 4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26A2-12BA-45BF-8FFE-F2F1D5FBEA74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Определение проекта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10c"/>
                </a:solidFill>
                <a:latin typeface="Arial"/>
              </a:rPr>
              <a:t>«</a:t>
            </a:r>
            <a:r>
              <a:rPr b="0" i="1" lang="ru-RU" sz="2800" spc="-1" strike="noStrike">
                <a:solidFill>
                  <a:srgbClr val="22210c"/>
                </a:solidFill>
                <a:latin typeface="Arial"/>
              </a:rPr>
              <a:t>Проект</a:t>
            </a:r>
            <a:r>
              <a:rPr b="0" lang="ru-RU" sz="2800" spc="-1" strike="noStrike">
                <a:solidFill>
                  <a:srgbClr val="22210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2210c"/>
                </a:solidFill>
                <a:latin typeface="Arial"/>
              </a:rPr>
              <a:t>– целенаправленная деятельность временного характера, предназначенная для создания уникального продукта или услуги, ограниченная во времени и связанная с потреблением ресурсов».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533520" indent="-5335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2210c"/>
                </a:solidFill>
                <a:latin typeface="Arial"/>
              </a:rPr>
              <a:t>Национальные требования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533520" indent="-5335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2210c"/>
                </a:solidFill>
                <a:latin typeface="Arial"/>
              </a:rPr>
              <a:t>к компетенции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533520" indent="-5335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2210c"/>
                </a:solidFill>
                <a:latin typeface="Arial"/>
              </a:rPr>
              <a:t>СОВНЕТ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7" name="Номер слайда 4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41CA-C57F-45A7-B238-367B57B51B28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Признаки проекта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ad8f6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10c"/>
                </a:solidFill>
                <a:latin typeface="Arial"/>
              </a:rPr>
              <a:t>Направленность на достижение конкретных целей 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ad8f6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10c"/>
                </a:solidFill>
                <a:latin typeface="Arial"/>
              </a:rPr>
              <a:t>Координированное выполнение взаимосвязанных элементарных работ 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ad8f6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10c"/>
                </a:solidFill>
                <a:latin typeface="Arial"/>
              </a:rPr>
              <a:t>Ограниченность ресурсов, в том числе временного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ad8f6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10c"/>
                </a:solidFill>
                <a:latin typeface="Arial"/>
              </a:rPr>
              <a:t>Неповторимость и уникальность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0" name="Номер слайда 4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74FB-3A6F-4819-900C-CF9604E7822C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Номер слайда 5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34AA-CF2D-49F6-B1AF-12E3DD82DB1B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2" name="i-main-pic" descr="Картинка 1 из 630"/>
          <p:cNvPicPr/>
          <p:nvPr/>
        </p:nvPicPr>
        <p:blipFill>
          <a:blip r:embed="rId1"/>
          <a:stretch/>
        </p:blipFill>
        <p:spPr>
          <a:xfrm>
            <a:off x="34920" y="1700280"/>
            <a:ext cx="2938320" cy="374472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9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4" name="Rectangle 10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5" name="Прямоугольник 1"/>
          <p:cNvSpPr/>
          <p:nvPr/>
        </p:nvSpPr>
        <p:spPr>
          <a:xfrm>
            <a:off x="3693240" y="287280"/>
            <a:ext cx="174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MART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3059280" y="1557360"/>
            <a:ext cx="583380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1b3c"/>
                </a:solidFill>
                <a:latin typeface="Verdana"/>
              </a:rPr>
              <a:t>SMART</a:t>
            </a:r>
            <a:r>
              <a:rPr b="1" lang="ru-RU" sz="2400" spc="-1" strike="noStrike">
                <a:solidFill>
                  <a:srgbClr val="091b3c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91b3c"/>
                </a:solidFill>
                <a:latin typeface="Verdana"/>
              </a:rPr>
              <a:t>является аббревиатурой, которую ввел в 1954 г. Питер Друкер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91b3c"/>
                </a:solidFill>
                <a:latin typeface="Verdana"/>
              </a:rPr>
              <a:t>5 критериев постановки целей: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1b3c"/>
                </a:solidFill>
                <a:latin typeface="Verdana"/>
              </a:rPr>
              <a:t>S</a:t>
            </a:r>
            <a:r>
              <a:rPr b="0" lang="ru-RU" sz="2400" spc="-1" strike="noStrike">
                <a:solidFill>
                  <a:srgbClr val="091b3c"/>
                </a:solidFill>
                <a:latin typeface="Verdana"/>
              </a:rPr>
              <a:t>pecific</a:t>
            </a:r>
            <a:r>
              <a:rPr b="1" lang="ru-RU" sz="2400" spc="-1" strike="noStrike">
                <a:solidFill>
                  <a:srgbClr val="091b3c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91b3c"/>
                </a:solidFill>
                <a:latin typeface="Verdana"/>
              </a:rPr>
              <a:t>- конкретная;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1b3c"/>
                </a:solidFill>
                <a:latin typeface="Verdana"/>
              </a:rPr>
              <a:t>M</a:t>
            </a:r>
            <a:r>
              <a:rPr b="0" lang="ru-RU" sz="2400" spc="-1" strike="noStrike">
                <a:solidFill>
                  <a:srgbClr val="091b3c"/>
                </a:solidFill>
                <a:latin typeface="Verdana"/>
              </a:rPr>
              <a:t>easurable</a:t>
            </a:r>
            <a:r>
              <a:rPr b="1" lang="ru-RU" sz="2400" spc="-1" strike="noStrike">
                <a:solidFill>
                  <a:srgbClr val="091b3c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91b3c"/>
                </a:solidFill>
                <a:latin typeface="Verdana"/>
              </a:rPr>
              <a:t>- измеримая;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1b3c"/>
                </a:solidFill>
                <a:latin typeface="Verdana"/>
              </a:rPr>
              <a:t>A</a:t>
            </a:r>
            <a:r>
              <a:rPr b="0" lang="ru-RU" sz="2400" spc="-1" strike="noStrike">
                <a:solidFill>
                  <a:srgbClr val="091b3c"/>
                </a:solidFill>
                <a:latin typeface="Verdana"/>
              </a:rPr>
              <a:t>chievable - достижимая;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1b3c"/>
                </a:solidFill>
                <a:latin typeface="Verdana"/>
              </a:rPr>
              <a:t>R</a:t>
            </a:r>
            <a:r>
              <a:rPr b="0" lang="ru-RU" sz="2400" spc="-1" strike="noStrike">
                <a:solidFill>
                  <a:srgbClr val="091b3c"/>
                </a:solidFill>
                <a:latin typeface="Verdana"/>
              </a:rPr>
              <a:t>ealistiс - реалистичная;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1b3c"/>
                </a:solidFill>
                <a:latin typeface="Verdana"/>
              </a:rPr>
              <a:t>T</a:t>
            </a:r>
            <a:r>
              <a:rPr b="0" lang="ru-RU" sz="2400" spc="-1" strike="noStrike">
                <a:solidFill>
                  <a:srgbClr val="091b3c"/>
                </a:solidFill>
                <a:latin typeface="Verdana"/>
              </a:rPr>
              <a:t>ime</a:t>
            </a:r>
            <a:r>
              <a:rPr b="0" lang="en-US" sz="2400" spc="-1" strike="noStrike">
                <a:solidFill>
                  <a:srgbClr val="091b3c"/>
                </a:solidFill>
                <a:latin typeface="Verdana"/>
              </a:rPr>
              <a:t>d </a:t>
            </a:r>
            <a:r>
              <a:rPr b="0" lang="ru-RU" sz="2400" spc="-1" strike="noStrike">
                <a:solidFill>
                  <a:srgbClr val="091b3c"/>
                </a:solidFill>
                <a:latin typeface="Verdana"/>
              </a:rPr>
              <a:t>- определенная по времени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Постановка цели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2533c"/>
                </a:solidFill>
                <a:latin typeface="Arial"/>
              </a:rPr>
              <a:t>Координированное выполнение взаимосвязанных элементарных работ 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8360" y="2278080"/>
            <a:ext cx="82296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d35"/>
                </a:solidFill>
                <a:latin typeface="Arial"/>
              </a:rPr>
              <a:t>Элементарность работы – понятие условное и относительное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d35"/>
                </a:solidFill>
                <a:latin typeface="Arial"/>
              </a:rPr>
              <a:t>Объект проектного управления – комплекс взаимосвязанных работ, направленных на решение некоторой оригинальной</a:t>
            </a:r>
            <a:r>
              <a:rPr b="0" i="1" lang="ru-RU" sz="2400" spc="-1" strike="noStrike">
                <a:solidFill>
                  <a:srgbClr val="262d3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62d35"/>
                </a:solidFill>
                <a:latin typeface="Arial"/>
              </a:rPr>
              <a:t>задачи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d35"/>
                </a:solidFill>
                <a:latin typeface="Arial"/>
              </a:rPr>
              <a:t>Проект – это система, состоящая из взаимосвязанных частей, причем система динамическая, требующая особых подходов к управлению. 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C6A4-C4E0-43EC-B6F4-2DDB2C6DBEEC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Ограниченность ресурсов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d35"/>
                </a:solidFill>
                <a:latin typeface="Arial"/>
              </a:rPr>
              <a:t>При управлении проектом первоочередным контролируемым ресурсом является </a:t>
            </a:r>
            <a:r>
              <a:rPr b="1" lang="ru-RU" sz="3200" spc="-1" strike="noStrike">
                <a:solidFill>
                  <a:srgbClr val="262d35"/>
                </a:solidFill>
                <a:latin typeface="Arial"/>
              </a:rPr>
              <a:t>время</a:t>
            </a:r>
            <a:r>
              <a:rPr b="0" lang="ru-RU" sz="3200" spc="-1" strike="noStrike">
                <a:solidFill>
                  <a:srgbClr val="262d35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d35"/>
                </a:solidFill>
                <a:latin typeface="Arial"/>
              </a:rPr>
              <a:t>Использование других видов ресурсов осуществляется в рамках заранее определенных временных периодов. 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CF3E-9858-4A6E-ACEC-CDF4A615D79B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2533c"/>
                </a:solidFill>
                <a:latin typeface="Arial"/>
              </a:rPr>
              <a:t>Классификация проектов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52000" y="1052640"/>
            <a:ext cx="865044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960840" indent="-517320">
              <a:lnSpc>
                <a:spcPct val="7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960840" indent="-517320">
              <a:lnSpc>
                <a:spcPct val="7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d35"/>
                </a:solidFill>
                <a:latin typeface="Arial"/>
              </a:rPr>
              <a:t>Организационные проекты</a:t>
            </a:r>
            <a:r>
              <a:rPr b="0" lang="ru-RU" sz="2800" spc="-1" strike="noStrike">
                <a:solidFill>
                  <a:srgbClr val="262d35"/>
                </a:solidFill>
                <a:latin typeface="Arial"/>
              </a:rPr>
              <a:t> (связаны с реформированием организаций, созданием новой организации и др.);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960840" indent="-517320">
              <a:lnSpc>
                <a:spcPct val="7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960840" indent="-517320">
              <a:lnSpc>
                <a:spcPct val="7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d35"/>
                </a:solidFill>
                <a:latin typeface="Arial"/>
              </a:rPr>
              <a:t>Экономические проекты</a:t>
            </a:r>
            <a:r>
              <a:rPr b="0" lang="ru-RU" sz="2800" spc="-1" strike="noStrike">
                <a:solidFill>
                  <a:srgbClr val="262d35"/>
                </a:solidFill>
                <a:latin typeface="Arial"/>
              </a:rPr>
              <a:t> (связаны с привлечение инвестиций, создают новые предприятия и др.);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960840" indent="-517320">
              <a:lnSpc>
                <a:spcPct val="7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960840" indent="-517320">
              <a:lnSpc>
                <a:spcPct val="7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d35"/>
                </a:solidFill>
                <a:latin typeface="Arial"/>
              </a:rPr>
              <a:t>Социальные проекты</a:t>
            </a:r>
            <a:r>
              <a:rPr b="0" lang="ru-RU" sz="2800" spc="-1" strike="noStrike">
                <a:solidFill>
                  <a:srgbClr val="262d35"/>
                </a:solidFill>
                <a:latin typeface="Arial"/>
              </a:rPr>
              <a:t> (связаны с решением социальных проблем);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960840" indent="-517320">
              <a:lnSpc>
                <a:spcPct val="7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lvl="1" marL="960840" indent="-517320">
              <a:lnSpc>
                <a:spcPct val="7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d35"/>
                </a:solidFill>
                <a:latin typeface="Arial"/>
              </a:rPr>
              <a:t>Технологические проекты</a:t>
            </a:r>
            <a:r>
              <a:rPr b="0" lang="ru-RU" sz="2800" spc="-1" strike="noStrike">
                <a:solidFill>
                  <a:srgbClr val="262d35"/>
                </a:solidFill>
                <a:latin typeface="Arial"/>
              </a:rPr>
              <a:t> (связаны с разработкой нового продукта, новой технологии)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7620120" y="190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1001-164A-4898-BB8B-228040EF7057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2533c"/>
                </a:solidFill>
                <a:latin typeface="Arial"/>
              </a:rPr>
              <a:t>Направления для формирования тематики проектов</a:t>
            </a: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Arial"/>
              </a:rPr>
              <a:t>Социально-экономическое развитие региона, муниципального района, территории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Arial"/>
              </a:rPr>
              <a:t>Приграничное и межрегиональное сотрудничество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34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34"/>
                </a:solidFill>
                <a:latin typeface="Arial"/>
              </a:rPr>
              <a:t>Формирование студенческого самоуправления, социальной мобильности, развитие студенческой науки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adim</dc:creator>
  <dc:description/>
  <dc:language>en-US</dc:language>
  <cp:lastModifiedBy>Vadim</cp:lastModifiedBy>
  <dcterms:modified xsi:type="dcterms:W3CDTF">2013-03-29T13:01:54Z</dcterms:modified>
  <cp:revision>5</cp:revision>
  <dc:subject/>
  <dc:title>ОСНОВЫ УПРАВЛЕНИЯ ПРОЕКТАМИ</dc:title>
</cp:coreProperties>
</file>